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5639-AC06-4718-AF7A-7E53BF25C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68A0-E036-45C3-9061-86A62AB1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4DEC-A39B-40F8-AAFF-833354BF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F519-7881-4A2F-A263-548B53EE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CA00-BB3E-4C8A-BEA1-86F2B155E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D692-D99E-4834-9A06-0E1E2F6C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7922-13AC-436F-87E2-3B276BAA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4361-A3E0-422B-9802-563A605A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FFC3-2534-4C2C-9FC4-26F94002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CE84-6464-4631-93B4-F7298B41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9179-CD03-41C1-820E-2731EF80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E71F-2E2D-4514-B7A5-79527B00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C13A-66AC-40FD-B4CC-58B54B08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655D-3448-43C0-81AD-AA5E580E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ED76-3226-446E-8EEB-D7B5CBD5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40F1-D65B-494E-95C9-1E42E1FC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40B9-B4F0-438E-987E-8A46013C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1E0C-DDCA-4A44-96EB-8B601A96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3291-553A-4D92-8947-D9FB1765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2EFC-FF14-432F-940E-01E0EC71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0470-2400-4EB7-9BAD-31A57BFD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0623-F094-43AB-89DE-CE5C68B3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1C30-7DB1-4120-BF13-F3FB5B6F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CDBF-EB63-42E7-B055-8BE87599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4623-951E-4C07-A05D-284353082F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8BB2-9C15-4D21-8CAD-B866E0A177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arkschulze.net/snakes/" TargetMode="External"/><Relationship Id="rId2" Type="http://schemas.openxmlformats.org/officeDocument/2006/relationships/hyperlink" Target="http://torina.fe.uni-lj.si/~tomo/ac/Snakes.html" TargetMode="External"/><Relationship Id="rId3" Type="http://schemas.openxmlformats.org/officeDocument/2006/relationships/hyperlink" Target="http://web.mit.edu/stanrost/www/cs585p3/p3.html" TargetMode="External"/><Relationship Id="rId4" Type="http://schemas.openxmlformats.org/officeDocument/2006/relationships/hyperlink" Target="http://web.mit.edu/stanrost/www/cs585p3/p3.html" TargetMode="External"/><Relationship Id="rId5" Type="http://schemas.openxmlformats.org/officeDocument/2006/relationships/hyperlink" Target="http://web.mit.edu/stanrost/www/cs585p3/p3.html" TargetMode="External"/><Relationship Id="rId6" Type="http://schemas.openxmlformats.org/officeDocument/2006/relationships/hyperlink" Target="http://web.mit.edu/stanrost/www/cs585p3/p3.html" TargetMode="External"/><Relationship Id="rId7" Type="http://schemas.openxmlformats.org/officeDocument/2006/relationships/hyperlink" Target="http://web.mit.edu/stanrost/www/cs585p3/p3.html" TargetMode="External"/><Relationship Id="rId8" Type="http://schemas.openxmlformats.org/officeDocument/2006/relationships/hyperlink" Target="http://web.mit.edu/stanrost/www/cs585p3/p3.html" TargetMode="External"/><Relationship Id="rId9" Type="http://schemas.openxmlformats.org/officeDocument/2006/relationships/hyperlink" Target="http://web.mit.edu/stanrost/www/cs585p3/p3.html" TargetMode="External"/><Relationship Id="rId10" Type="http://schemas.openxmlformats.org/officeDocument/2006/relationships/hyperlink" Target="http://homepages.inf.ed.ac.uk/cgi/rbf/CVONLINE/entries.pl?TAG709" TargetMode="External"/><Relationship Id="rId11" Type="http://schemas.openxmlformats.org/officeDocument/2006/relationships/hyperlink" Target="http://homepages.inf.ed.ac.uk/cgi/rbf/CVONLINE/entries.pl?TAG709" TargetMode="External"/><Relationship Id="rId12" Type="http://schemas.openxmlformats.org/officeDocument/2006/relationships/hyperlink" Target="http://homepages.inf.ed.ac.uk/cgi/rbf/CVONLINE/entries.pl?TAG709" TargetMode="External"/><Relationship Id="rId13" Type="http://schemas.openxmlformats.org/officeDocument/2006/relationships/hyperlink" Target="http://homepages.inf.ed.ac.uk/cgi/rbf/CVONLINE/entries.pl?TAG709" TargetMode="External"/><Relationship Id="rId14" Type="http://schemas.openxmlformats.org/officeDocument/2006/relationships/hyperlink" Target="http://homepages.inf.ed.ac.uk/cgi/rbf/CVONLINE/entries.pl?TAG709" TargetMode="External"/><Relationship Id="rId15" Type="http://schemas.openxmlformats.org/officeDocument/2006/relationships/hyperlink" Target="http://homepages.inf.ed.ac.uk/cgi/rbf/CVONLINE/entries.pl?TAG709" TargetMode="External"/><Relationship Id="rId16" Type="http://schemas.openxmlformats.org/officeDocument/2006/relationships/hyperlink" Target="http://homepages.inf.ed.ac.uk/cgi/rbf/CVONLINE/entries.pl?TAG709" TargetMode="External"/><Relationship Id="rId1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“Greedy Snake” Algorith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ick Gov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avid New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rawing Corn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ach Snake Point take Curvature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Greater than other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specified Angular Thresh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Image Gradient high en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 set β for that Snake point to 0, allowing a Corn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Varying α, β and γ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hoose different values dependent on Feature to extr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t α high if there is a deceptive Image Grad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t β high if smooth edged Feature, low if sharp ed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t γ high if contrast between Background and Feature is 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reedy Snake” Problem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ery sensitive to No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oth Gaussian and Salt &amp; Pep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efore defining initial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rstly Gaussian Blur im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n apply a Median Fil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[1]:</a:t>
            </a:r>
            <a:r>
              <a:rPr b="0" lang="en-GB" sz="28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www.markschulze.net/snakes/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- Snake Applet &amp; Explanation of Algorith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[2]:</a:t>
            </a:r>
            <a:r>
              <a:rPr b="0" lang="en-GB" sz="28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http://torina.fe.uni-lj.si/~tomo/ac/Snakes.htm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- Another Snake Appl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[3]:</a:t>
            </a:r>
            <a:r>
              <a:rPr b="0" lang="en-GB" sz="28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http://web.</a:t>
            </a:r>
            <a:r>
              <a:rPr b="0" lang="en-GB" sz="28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mit</a:t>
            </a:r>
            <a:r>
              <a:rPr b="0" lang="en-GB" sz="2800" spc="-1" strike="noStrike" u="sng">
                <a:solidFill>
                  <a:srgbClr val="ff0033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GB" sz="2800" spc="-1" strike="noStrike" u="sng">
                <a:solidFill>
                  <a:srgbClr val="ff0033"/>
                </a:solidFill>
                <a:uFillTx/>
                <a:latin typeface="Times New Roman"/>
                <a:hlinkClick r:id="rId6"/>
              </a:rPr>
              <a:t>edu</a:t>
            </a:r>
            <a:r>
              <a:rPr b="0" lang="en-GB" sz="2800" spc="-1" strike="noStrike" u="sng">
                <a:solidFill>
                  <a:srgbClr val="ff0033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en-GB" sz="2800" spc="-1" strike="noStrike" u="sng">
                <a:solidFill>
                  <a:srgbClr val="ff0033"/>
                </a:solidFill>
                <a:uFillTx/>
                <a:latin typeface="Times New Roman"/>
                <a:hlinkClick r:id="rId8"/>
              </a:rPr>
              <a:t>stanrost</a:t>
            </a:r>
            <a:r>
              <a:rPr b="0" lang="en-GB" sz="2800" spc="-1" strike="noStrike" u="sng">
                <a:solidFill>
                  <a:srgbClr val="ff0033"/>
                </a:solidFill>
                <a:uFillTx/>
                <a:latin typeface="Times New Roman"/>
                <a:hlinkClick r:id="rId9"/>
              </a:rPr>
              <a:t>/www/cs585p3/p3.html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– Explanation + Matlab Imple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[4]:</a:t>
            </a:r>
            <a:r>
              <a:rPr b="0" lang="en-GB" sz="2800" spc="-1" strike="noStrike" u="sng">
                <a:solidFill>
                  <a:srgbClr val="ff0033"/>
                </a:solidFill>
                <a:uFillTx/>
                <a:latin typeface="Times New Roman"/>
                <a:hlinkClick r:id="rId10"/>
              </a:rPr>
              <a:t>http://homepages.inf.ed.ac.</a:t>
            </a:r>
            <a:r>
              <a:rPr b="0" lang="en-GB" sz="2800" spc="-1" strike="noStrike" u="sng">
                <a:solidFill>
                  <a:srgbClr val="ff0033"/>
                </a:solidFill>
                <a:uFillTx/>
                <a:latin typeface="Times New Roman"/>
                <a:hlinkClick r:id="rId11"/>
              </a:rPr>
              <a:t>uk</a:t>
            </a:r>
            <a:r>
              <a:rPr b="0" lang="en-GB" sz="2800" spc="-1" strike="noStrike" u="sng">
                <a:solidFill>
                  <a:srgbClr val="ff0033"/>
                </a:solidFill>
                <a:uFillTx/>
                <a:latin typeface="Times New Roman"/>
                <a:hlinkClick r:id="rId12"/>
              </a:rPr>
              <a:t>/</a:t>
            </a:r>
            <a:r>
              <a:rPr b="0" lang="en-GB" sz="2800" spc="-1" strike="noStrike" u="sng">
                <a:solidFill>
                  <a:srgbClr val="ff0033"/>
                </a:solidFill>
                <a:uFillTx/>
                <a:latin typeface="Times New Roman"/>
                <a:hlinkClick r:id="rId13"/>
              </a:rPr>
              <a:t>cgi</a:t>
            </a:r>
            <a:r>
              <a:rPr b="0" lang="en-GB" sz="2800" spc="-1" strike="noStrike" u="sng">
                <a:solidFill>
                  <a:srgbClr val="ff0033"/>
                </a:solidFill>
                <a:uFillTx/>
                <a:latin typeface="Times New Roman"/>
                <a:hlinkClick r:id="rId14"/>
              </a:rPr>
              <a:t>/</a:t>
            </a:r>
            <a:r>
              <a:rPr b="0" lang="en-GB" sz="2800" spc="-1" strike="noStrike" u="sng">
                <a:solidFill>
                  <a:srgbClr val="ff0033"/>
                </a:solidFill>
                <a:uFillTx/>
                <a:latin typeface="Times New Roman"/>
                <a:hlinkClick r:id="rId15"/>
              </a:rPr>
              <a:t>rbf</a:t>
            </a:r>
            <a:r>
              <a:rPr b="0" lang="en-GB" sz="2800" spc="-1" strike="noStrike" u="sng">
                <a:solidFill>
                  <a:srgbClr val="ff0033"/>
                </a:solidFill>
                <a:uFillTx/>
                <a:latin typeface="Times New Roman"/>
                <a:hlinkClick r:id="rId16"/>
              </a:rPr>
              <a:t>/CVONLINE/entries.pl?TAG709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– Repository of Greedy Snake Lin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Dem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ww.ecs.soton.ac.uk/~drn101/Snakes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stions ?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What is “Greedy Snake”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How does it Work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roblems of Greedy Snak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Dem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Questions?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What is “Greedy Snake”?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Feature Extraction techniq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metimes called “Active Contour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s like stretched Elastic Band being releas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Greedy Snake” Theory (1)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itial Points defined around Feature to be extrac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icitly def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roximation of an Ellip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e-defined number of Points genera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Greedy Snake” Theory (2)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ints are moved through an Iterative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 Function” for each point in the Local Neighbourhood is calcul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e to point with lowest Energy 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eat for every 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rate until Termination Condition m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d number of it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bility of the position of the po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nergy Fun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ree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tinu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urv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mage (Gradi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ach Weighted by Specified Param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otal Energy = α · Continuity + β · Curvature + γ ·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ntinu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4876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bs(avg_dist_btw_nodes – dist(V(i),V(i-1)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alue = Smaller Distance between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higher α, the more important the distance between points is minimiz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52880" y="1905120"/>
            <a:ext cx="38102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91320" y="24382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24382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5880" y="24382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48520" y="24382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24382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4382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24382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24382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24382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62920" y="24382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15200" y="24382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67480" y="24382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24382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772400" y="24382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25909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43600" y="25909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5880" y="25909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48520" y="25909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00800" y="25909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53080" y="25909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05720" y="25909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25909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162920" y="25909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15200" y="25909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5909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772400" y="25909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2743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43600" y="2743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5880" y="27432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48520" y="2743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00800" y="2743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53080" y="27432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05720" y="2743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0" y="2743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10280" y="27432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62920" y="27432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15200" y="2743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7480" y="27432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0120" y="2743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772400" y="2743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28954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28954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28954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28954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28954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53080" y="28954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28954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28954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8954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62920" y="28954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28954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67480" y="28954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0120" y="28954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72400" y="28954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30481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30481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0481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30481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30481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53080" y="30481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30481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0" y="30481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62920" y="30481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15200" y="30481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30481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0120" y="30481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72400" y="30481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32004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32004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32004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32004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00800" y="32004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32004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32004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32004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0280" y="32004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162920" y="32004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32004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467480" y="32004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0120" y="32004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772400" y="32004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91320" y="33526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43600" y="33526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5880" y="33526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48520" y="33526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00800" y="33526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3080" y="33526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33526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0" y="33526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10280" y="33526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62920" y="33526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15200" y="33526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467480" y="33526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20120" y="33526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72400" y="33526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91320" y="35053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35053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35053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48520" y="35053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00800" y="35053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553080" y="35053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05720" y="3505320"/>
            <a:ext cx="152280" cy="152280"/>
          </a:xfrm>
          <a:prstGeom prst="rect">
            <a:avLst/>
          </a:prstGeom>
          <a:solidFill>
            <a:srgbClr val="ff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0" y="35053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162920" y="35053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35053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467480" y="35053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0120" y="35053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772400" y="35053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91320" y="36576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36576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36576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48520" y="36576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00800" y="36576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553080" y="36576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05720" y="36576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0" y="36576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010280" y="36576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62920" y="36576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315200" y="36576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67480" y="36576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20120" y="36576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72400" y="36576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91320" y="38098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43600" y="38098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5880" y="38098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248520" y="38098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00800" y="38098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53080" y="38098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38098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0" y="38098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10280" y="38098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162920" y="38098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15200" y="38098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67480" y="38098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20120" y="38098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38098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91320" y="39625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943600" y="39625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39625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48520" y="39625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00800" y="39625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53080" y="39625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9625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0" y="39625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162920" y="39625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15200" y="39625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67480" y="39625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0120" y="39625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72400" y="39625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91320" y="41148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943600" y="41148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5880" y="41148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48520" y="41148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41148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41148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05720" y="41148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0" y="41148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10280" y="41148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162920" y="41148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315200" y="41148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67480" y="41148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620120" y="41148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772400" y="41148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91320" y="42670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43600" y="42670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5880" y="42670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42670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400800" y="42670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553080" y="42670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05720" y="42670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0" y="42670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162920" y="42670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315200" y="42670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67480" y="42670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0120" y="42670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772400" y="42670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91320" y="44197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943600" y="44197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5880" y="44197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248520" y="44197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00800" y="44197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553080" y="44197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705720" y="44197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4197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010280" y="44197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62920" y="44197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44197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67480" y="44197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20120" y="44197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772400" y="44197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91320" y="49528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487692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ighbouring Poi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91320" y="5334120"/>
            <a:ext cx="152280" cy="152280"/>
          </a:xfrm>
          <a:prstGeom prst="rect">
            <a:avLst/>
          </a:prstGeom>
          <a:solidFill>
            <a:srgbClr val="ff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19920" y="525780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 Poi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19920" y="56386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sible New Poi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91320" y="5715000"/>
            <a:ext cx="15228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553080" y="3352680"/>
            <a:ext cx="457200" cy="457200"/>
            <a:chOff x="6553080" y="3352680"/>
            <a:chExt cx="457200" cy="457200"/>
          </a:xfrm>
        </p:grpSpPr>
        <p:sp>
          <p:nvSpPr>
            <p:cNvPr id="306" name=""/>
            <p:cNvSpPr/>
            <p:nvPr/>
          </p:nvSpPr>
          <p:spPr>
            <a:xfrm>
              <a:off x="6553080" y="3352680"/>
              <a:ext cx="152640" cy="152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705720" y="3352680"/>
              <a:ext cx="152280" cy="152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858000" y="3352680"/>
              <a:ext cx="152280" cy="152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58000" y="3505320"/>
              <a:ext cx="152280" cy="152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58000" y="3657600"/>
              <a:ext cx="152280" cy="152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705720" y="3657600"/>
              <a:ext cx="152280" cy="152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53080" y="3657600"/>
              <a:ext cx="152640" cy="152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53080" y="3505320"/>
              <a:ext cx="152640" cy="152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553080" y="3352680"/>
            <a:ext cx="457200" cy="457200"/>
            <a:chOff x="6553080" y="3352680"/>
            <a:chExt cx="457200" cy="457200"/>
          </a:xfrm>
        </p:grpSpPr>
        <p:sp>
          <p:nvSpPr>
            <p:cNvPr id="315" name=""/>
            <p:cNvSpPr/>
            <p:nvPr/>
          </p:nvSpPr>
          <p:spPr>
            <a:xfrm>
              <a:off x="6553080" y="3352680"/>
              <a:ext cx="1526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705720" y="3352680"/>
              <a:ext cx="152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858000" y="3352680"/>
              <a:ext cx="152280" cy="152640"/>
            </a:xfrm>
            <a:prstGeom prst="rect">
              <a:avLst/>
            </a:prstGeom>
            <a:solidFill>
              <a:srgbClr val="ff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3080" y="35053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705720" y="35053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858000" y="35053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553080" y="365760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705720" y="365760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58000" y="365760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ff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0" y="33526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urva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191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(V(i-1) -2·V(i) + V(i+1)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ised by greatest value in neighbourh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igher β, the more important that angles are maximiz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52880" y="1905120"/>
            <a:ext cx="38102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791320" y="24382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943600" y="24382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5880" y="24382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248520" y="24382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00800" y="24382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553080" y="24382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05720" y="24382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58000" y="24382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010280" y="24382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162920" y="24382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315200" y="24382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467480" y="24382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620120" y="24382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772400" y="24382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91320" y="25909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943600" y="25909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095880" y="25909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248520" y="25909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400800" y="25909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25909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05720" y="25909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0" y="25909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162920" y="25909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315200" y="25909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467480" y="25909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25909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25909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791320" y="2743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943600" y="2743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5880" y="27432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248520" y="2743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400800" y="2743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553080" y="27432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05720" y="2743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2743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010280" y="27432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162920" y="27432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2743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467480" y="27432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620120" y="2743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772400" y="2743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791320" y="28954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943600" y="28954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5880" y="28954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248520" y="28954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400800" y="28954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553080" y="28954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05720" y="28954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0" y="28954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10280" y="28954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162920" y="28954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315200" y="28954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467480" y="28954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620120" y="28954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772400" y="28954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91320" y="30481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943600" y="30481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95880" y="30481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48520" y="30481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400800" y="30481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553080" y="30481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705720" y="30481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0" y="30481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162920" y="30481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5200" y="30481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67480" y="30481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620120" y="30481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772400" y="30481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91320" y="32004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943600" y="32004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5880" y="32004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48520" y="32004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00800" y="32004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553080" y="32004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705720" y="32004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0" y="32004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010280" y="32004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162920" y="32004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315200" y="32004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467480" y="32004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620120" y="32004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772400" y="32004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791320" y="33526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943600" y="33526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95880" y="33526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248520" y="33526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400800" y="33526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553080" y="33526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705720" y="33526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58000" y="33526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10280" y="33526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162920" y="33526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315200" y="33526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467480" y="33526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620120" y="33526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772400" y="33526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91320" y="35053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943600" y="35053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95880" y="35053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248520" y="35053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400800" y="35053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553080" y="35053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3505320"/>
            <a:ext cx="152280" cy="152280"/>
          </a:xfrm>
          <a:prstGeom prst="rect">
            <a:avLst/>
          </a:prstGeom>
          <a:solidFill>
            <a:srgbClr val="ff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0" y="35053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162920" y="35053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315200" y="35053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467480" y="35053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620120" y="35053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772400" y="35053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791320" y="36576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943600" y="36576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5880" y="36576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248520" y="36576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400800" y="36576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553080" y="36576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705720" y="36576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58000" y="36576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010280" y="36576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162920" y="36576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315200" y="36576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467480" y="36576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620120" y="36576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772400" y="36576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91320" y="38098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943600" y="38098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095880" y="38098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48520" y="38098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400800" y="38098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553080" y="38098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705720" y="38098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38098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010280" y="38098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162920" y="38098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15200" y="38098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467480" y="38098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0120" y="38098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772400" y="38098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91320" y="39625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943600" y="39625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248520" y="39625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400800" y="39625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553080" y="39625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705720" y="39625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0" y="39625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162920" y="39625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39625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467480" y="39625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620120" y="39625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772400" y="39625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91320" y="41148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43600" y="41148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095880" y="41148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248520" y="41148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400800" y="41148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553080" y="41148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05720" y="41148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0" y="41148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010280" y="41148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162920" y="41148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315200" y="41148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467480" y="41148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620120" y="41148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772400" y="41148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91320" y="42670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943600" y="42670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095880" y="42670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48520" y="42670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400800" y="42670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553080" y="42670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705720" y="42670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0" y="42670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010280" y="4267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162920" y="42670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5200" y="42670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67480" y="42670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620120" y="42670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772400" y="42670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791320" y="44197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943600" y="44197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95880" y="44197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248520" y="44197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400800" y="44197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553080" y="44197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705720" y="44197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0" y="44197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010280" y="44197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162920" y="44197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315200" y="44197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467480" y="44197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620120" y="44197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772400" y="44197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91320" y="49528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19920" y="487692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ighbouring Poi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791320" y="5334120"/>
            <a:ext cx="152280" cy="152280"/>
          </a:xfrm>
          <a:prstGeom prst="rect">
            <a:avLst/>
          </a:prstGeom>
          <a:solidFill>
            <a:srgbClr val="ff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19920" y="525780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 Poi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19920" y="56386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sible New Poi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791320" y="5715000"/>
            <a:ext cx="15228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6553080" y="3352680"/>
            <a:ext cx="457200" cy="457200"/>
            <a:chOff x="6553080" y="3352680"/>
            <a:chExt cx="457200" cy="457200"/>
          </a:xfrm>
        </p:grpSpPr>
        <p:sp>
          <p:nvSpPr>
            <p:cNvPr id="532" name=""/>
            <p:cNvSpPr/>
            <p:nvPr/>
          </p:nvSpPr>
          <p:spPr>
            <a:xfrm>
              <a:off x="6553080" y="3352680"/>
              <a:ext cx="152640" cy="152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705720" y="3352680"/>
              <a:ext cx="152280" cy="152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858000" y="3352680"/>
              <a:ext cx="152280" cy="152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858000" y="3505320"/>
              <a:ext cx="152280" cy="152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58000" y="3657600"/>
              <a:ext cx="152280" cy="152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705720" y="3657600"/>
              <a:ext cx="152280" cy="152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53080" y="3657600"/>
              <a:ext cx="152640" cy="152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553080" y="3505320"/>
              <a:ext cx="152640" cy="152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6553080" y="3352680"/>
            <a:ext cx="457200" cy="457200"/>
            <a:chOff x="6553080" y="3352680"/>
            <a:chExt cx="457200" cy="457200"/>
          </a:xfrm>
        </p:grpSpPr>
        <p:sp>
          <p:nvSpPr>
            <p:cNvPr id="541" name=""/>
            <p:cNvSpPr/>
            <p:nvPr/>
          </p:nvSpPr>
          <p:spPr>
            <a:xfrm>
              <a:off x="6553080" y="3352680"/>
              <a:ext cx="1526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705720" y="3352680"/>
              <a:ext cx="152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58000" y="3352680"/>
              <a:ext cx="1522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553080" y="35053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705720" y="35053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858000" y="3505320"/>
              <a:ext cx="152280" cy="152280"/>
            </a:xfrm>
            <a:prstGeom prst="rect">
              <a:avLst/>
            </a:prstGeom>
            <a:solidFill>
              <a:srgbClr val="ff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53080" y="365760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705720" y="365760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858000" y="365760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7010280" y="4267080"/>
            <a:ext cx="152640" cy="152640"/>
          </a:xfrm>
          <a:prstGeom prst="rect">
            <a:avLst/>
          </a:prstGeom>
          <a:solidFill>
            <a:srgbClr val="ff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0" y="35053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Image (Gradient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- Img_grad (V(i)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igh Image Gradient = Low Energy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higher γ, the more important image edges 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952880" y="1905120"/>
            <a:ext cx="38102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791320" y="25146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943600" y="25146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5880" y="25146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248520" y="25146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400800" y="25146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553080" y="25146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705720" y="25146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0" y="25146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010280" y="25146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162920" y="251460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315200" y="251460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467480" y="2514600"/>
            <a:ext cx="15264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620120" y="251460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772400" y="251460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791320" y="26668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943600" y="26668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95880" y="26668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8520" y="26668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400800" y="26668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553080" y="26668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705720" y="26668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0" y="26668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010280" y="26668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162920" y="2666880"/>
            <a:ext cx="15228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315200" y="2666880"/>
            <a:ext cx="15228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467480" y="2666880"/>
            <a:ext cx="15264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620120" y="2666880"/>
            <a:ext cx="15228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772400" y="2666880"/>
            <a:ext cx="15228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1320" y="28195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943600" y="28195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95880" y="28195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248520" y="28195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400800" y="28195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3080" y="28195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705720" y="28195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858000" y="28195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162920" y="281952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15200" y="281952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67480" y="2819520"/>
            <a:ext cx="15264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20120" y="281952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772400" y="281952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91320" y="29718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943600" y="29718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95880" y="29718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248520" y="29718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400800" y="29718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553080" y="29718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705720" y="29718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858000" y="29718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010280" y="29718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162920" y="297180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315200" y="297180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467480" y="2971800"/>
            <a:ext cx="15264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620120" y="297180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772400" y="297180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91320" y="31240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943600" y="31240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095880" y="31240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248520" y="31240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400800" y="31240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553080" y="31240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705720" y="31240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858000" y="3124080"/>
            <a:ext cx="152280" cy="152640"/>
          </a:xfrm>
          <a:prstGeom prst="rect">
            <a:avLst/>
          </a:prstGeom>
          <a:solidFill>
            <a:srgbClr val="ff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010280" y="31240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162920" y="3124080"/>
            <a:ext cx="15228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315200" y="3124080"/>
            <a:ext cx="15228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467480" y="3124080"/>
            <a:ext cx="15264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620120" y="3124080"/>
            <a:ext cx="15228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772400" y="3124080"/>
            <a:ext cx="15228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791320" y="32767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943600" y="32767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5880" y="32767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248520" y="32767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400800" y="32767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553080" y="32767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705720" y="32767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858000" y="32767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162920" y="327672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315200" y="327672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467480" y="3276720"/>
            <a:ext cx="15264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620120" y="327672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772400" y="327672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791320" y="34290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943600" y="34290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95880" y="34290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248520" y="34290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400800" y="34290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553080" y="34290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705720" y="34290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0" y="34290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010280" y="34290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162920" y="342900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315200" y="342900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467480" y="3429000"/>
            <a:ext cx="15264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620120" y="342900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772400" y="342900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791320" y="35812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943600" y="35812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95880" y="35812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248520" y="35812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400800" y="35812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553080" y="35812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705720" y="35812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858000" y="35812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010280" y="35812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315200" y="3581280"/>
            <a:ext cx="15228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467480" y="3581280"/>
            <a:ext cx="15264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620120" y="3581280"/>
            <a:ext cx="15228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772400" y="3581280"/>
            <a:ext cx="15228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791320" y="37339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943600" y="37339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95880" y="37339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248520" y="37339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400800" y="37339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553080" y="37339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705720" y="37339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858000" y="37339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62920" y="373392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315200" y="373392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467480" y="3733920"/>
            <a:ext cx="15264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620120" y="373392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772400" y="373392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791320" y="43434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43600" y="43434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095880" y="43434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248520" y="43434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400800" y="43434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553080" y="43434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705720" y="43434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858000" y="43434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010280" y="43434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162920" y="434340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315200" y="434340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467480" y="4343400"/>
            <a:ext cx="15264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620120" y="434340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772400" y="434340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791320" y="44956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943600" y="44956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95880" y="44956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248520" y="44956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400800" y="44956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553080" y="44956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705720" y="44956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858000" y="44956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010280" y="44956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162920" y="4495680"/>
            <a:ext cx="15228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315200" y="4495680"/>
            <a:ext cx="15228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467480" y="4495680"/>
            <a:ext cx="15264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20120" y="4495680"/>
            <a:ext cx="15228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772400" y="4495680"/>
            <a:ext cx="15228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791320" y="46483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943600" y="46483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095880" y="46483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248520" y="46483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400800" y="46483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553080" y="46483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05720" y="46483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858000" y="46483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010280" y="46483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162920" y="464832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315200" y="464832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467480" y="4648320"/>
            <a:ext cx="15264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0120" y="464832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772400" y="464832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91320" y="48006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943600" y="48006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095880" y="48006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248520" y="48006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00800" y="48006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553080" y="48006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705720" y="48006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858000" y="48006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010280" y="48006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162920" y="480060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80060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467480" y="4800600"/>
            <a:ext cx="15264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620120" y="480060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772400" y="480060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791320" y="49528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943600" y="49528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095880" y="49528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248520" y="49528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400800" y="49528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553080" y="49528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705720" y="49528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858000" y="49528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010280" y="4952880"/>
            <a:ext cx="152640" cy="152640"/>
          </a:xfrm>
          <a:prstGeom prst="rect">
            <a:avLst/>
          </a:prstGeom>
          <a:solidFill>
            <a:srgbClr val="ff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162920" y="4952880"/>
            <a:ext cx="15228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315200" y="4952880"/>
            <a:ext cx="15228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467480" y="4952880"/>
            <a:ext cx="15264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620120" y="4952880"/>
            <a:ext cx="15228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772400" y="4952880"/>
            <a:ext cx="15228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791320" y="51055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943600" y="51055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095880" y="51055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248520" y="51055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51055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553080" y="51055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705720" y="51055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0" y="51055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10280" y="51055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162920" y="510552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315200" y="510552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467480" y="5105520"/>
            <a:ext cx="15264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620120" y="510552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772400" y="510552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791320" y="52578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943600" y="52578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095880" y="52578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248520" y="52578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400800" y="52578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553080" y="52578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705720" y="52578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0" y="52578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010280" y="52578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162920" y="525780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315200" y="525780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467480" y="5257800"/>
            <a:ext cx="15264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620120" y="525780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772400" y="525780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791320" y="54100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943600" y="54100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95880" y="54100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248520" y="54100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400800" y="54100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553080" y="54100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705720" y="54100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858000" y="54100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010280" y="5410080"/>
            <a:ext cx="1526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162920" y="5410080"/>
            <a:ext cx="15228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315200" y="5410080"/>
            <a:ext cx="15228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467480" y="5410080"/>
            <a:ext cx="15264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620120" y="5410080"/>
            <a:ext cx="15228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772400" y="5410080"/>
            <a:ext cx="15228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791320" y="55627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943600" y="55627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095880" y="55627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248520" y="55627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400800" y="55627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553080" y="55627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705720" y="55627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858000" y="55627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010280" y="556272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162920" y="556272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315200" y="556272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467480" y="5562720"/>
            <a:ext cx="15264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772400" y="556272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334120" y="1905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ume Gradient Measured on 3x3 Templ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562720" y="396252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w Image Gradi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562720" y="579132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 Image Gradi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3:09:48Z</dcterms:created>
  <dc:creator>Dave Newman</dc:creator>
  <dc:description/>
  <dc:language>en-US</dc:language>
  <cp:lastModifiedBy>Dave Newman</cp:lastModifiedBy>
  <dcterms:modified xsi:type="dcterms:W3CDTF">2005-03-14T18:22:24Z</dcterms:modified>
  <cp:revision>5</cp:revision>
  <dc:subject/>
  <dc:title>The “Greedy Snake” Algorithm</dc:title>
</cp:coreProperties>
</file>